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44C-5F41-4AD6-8A90-F043746D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6CF-65C5-44F7-9644-DCA00E38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2CB-1ABF-4B13-8CD1-2A509412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BAD-D43C-4F5A-B2C0-575ED0E5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D4C-A935-4164-A86A-45A1FD7B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99A-0D3C-4A65-A457-856F0AF9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93B-8605-43A0-9172-333FFEC0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836-5AB9-4D15-91D6-BD97E533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617-96DF-445D-B3F2-5DD5A3F3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223-206B-407C-849B-1C19C323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1DA-9FCF-4874-BAE2-F1DD9D21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013-7782-435A-A33B-0E18FDF9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0A15-F346-469E-BDCC-33CE403E9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0120" y="304920"/>
            <a:ext cx="1295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everybody had a robot it would be a lot easier to live. Robots would do any thing and have any 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0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Everybody has a Personal Rob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095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55:01Z</dcterms:created>
  <dc:creator>St. Jude School</dc:creator>
  <dc:description/>
  <dc:language>en-US</dc:language>
  <cp:lastModifiedBy>St. Jude School</cp:lastModifiedBy>
  <dcterms:modified xsi:type="dcterms:W3CDTF">2009-03-12T15:43:26Z</dcterms:modified>
  <cp:revision>4</cp:revision>
  <dc:subject/>
  <dc:title>Slide 1</dc:title>
</cp:coreProperties>
</file>